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76A-0FF5-4033-B67A-DB546A24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9182-8260-4E92-B99D-4689152D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23B-D98E-466D-BDCA-E72C54F8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79FB-9CC3-4375-9509-7731AB42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3505-35B2-4770-A08A-A1867861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2431-E646-44EC-8FA7-7094E0E3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43F3-4EBD-4010-A43B-B0CFE196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3C8F-DBB6-4F7D-8918-F653C029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6524-2C47-4CB7-8B84-B6D98A25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3989-087E-41DF-AA7A-6700039B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E927-2BBA-43F6-A5A8-B443FE39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A73-774B-41DE-91AB-11260781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4AAD-247D-4E51-8948-803F3DEC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0B13-CB29-463A-B64A-C6B3CB48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6BD1-63B3-41CA-9D34-45E44DC6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3D2F-7C4C-4FD2-8A85-0AA29C0B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3727-B413-4762-AFF9-2DC6DC44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5637-A811-41D1-B81D-FBEB8E69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85C-252C-4419-85C4-1E1798E9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ABDE-14EB-4BE8-929E-6372B030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FAF9-447E-4199-BFA7-1195AA1E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780-80B2-419B-A3F6-A3BF67C9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2DF7-D24C-43C7-8B37-0542D49C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9D7B-B871-4D47-B266-5A389AFC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98BC-CE18-467A-BAE5-AAF8DD8F38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EC33-3AE6-40D4-9587-15DC0FABB3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ill There Was No Remedy</a:t>
            </a:r>
            <a:br>
              <a:rPr sz="4800"/>
            </a:b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 Divided Kingdom –Part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rter 7, Lesson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aiah – Par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ges 109-1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tline of Chapters 58-6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ish worship will have to go – 5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s still available – 59:1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justice will have to go – 59:3-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deemer will come to Zion – 59:19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lorified Zion (His people’s hearts) in the midst of the nations that oppose her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-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is involves a “remnant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 Last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urses Relating To Israel and Judah, and the Nations (Chapters 1-3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sages to Israel and Judah – ch. 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sages for the Nations – ch. 13-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sts Between God’s People and the Nations – ch. 24-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bukes &amp; Promises Regarding Israel’s Future – ch. 28-3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 Last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urses Relating To Israel and Judah, and the Nations (Chapters 1-3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zekiah and Judah Face Assyria – ch. 36-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delive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zekiah’s sick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tors from Baby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Series of V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s That Set Forth The Servants God Will Use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 Z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mplish His Will Among the Nations – ch. 40-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hovah Will Deliver Isra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s 40-4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Incomparable Grea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Comforts like Him? -  40:10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Strengthens like Him? –  40:29-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can know the future and tell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the True and LIVING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rus Will Serve God’s Pl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d Before Even Born – Only God could do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rus was the first king of Medo-Per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let God’s people go home from cap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’s servant to bring God’s judgment upon Baby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d’s Suffering Serv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s 49-5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Take Sin Upon Him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Satisfy Jus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Provide Sacrifice Through Which to Save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Messianic Serv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astonish the nations – 52:13-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be different than usual expectations -53:1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be wounded for our transgressions – 53:4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be oppressed though he had done no wrong – 53:7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His death the will of God would accomplished – 53:10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lorified Zion In A New Dispens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s 58-6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new age we will se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Rede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iritual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ed of David, the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23:38:57Z</dcterms:created>
  <dc:creator>Terry W. Benton</dc:creator>
  <dc:description/>
  <dc:language>en-US</dc:language>
  <cp:lastModifiedBy>Frank D Vines</cp:lastModifiedBy>
  <dcterms:modified xsi:type="dcterms:W3CDTF">2006-01-30T18:23:45Z</dcterms:modified>
  <cp:revision>6</cp:revision>
  <dc:subject/>
  <dc:title>Till There Was No Remedy The Divided Kingdom –Part 2</dc:title>
</cp:coreProperties>
</file>